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B507-46A7-4F73-87E5-7662A5F2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CF2C-0442-48AF-94D3-0BF580E2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D509-73BC-4A20-8AC3-6971D507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45D6-C616-4877-9177-4026653A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BF2C-138F-4EA9-821C-17318656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1780-FE8E-4F8C-A50A-9F544B69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D88D-0D6F-4A95-BFB4-4F165F85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C8D2-959E-45BD-B2EE-7E679954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289A-8F5E-471D-85B1-8B30BF2C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BF1E-BCDC-4303-A7A1-A09E801B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55C6-6FC0-43C3-9F83-71AFBEAD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8115-EAC3-4F90-944E-E6600E3B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9461-E090-40ED-9C42-1A882D7A0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620120" cy="19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VEST ŞI DE SUD-V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Geograf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681280" y="3100320"/>
            <a:ext cx="37814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esiunea iunie-iuli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eastă regiu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grafi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 se află în partea de vest a continentului, la contactul cu Europa şi Africa. Are, în cea mai mare parte, limite marine, cele terestre fiind prezente numai în est, unde se învecinează cu Asia de Sud, şi pe o mică porţiune în nord, unde se întinde lanţul muntos Caucaz, care constituie graniţa dintre Asia şi Europa. Deşi deţine numai o şeptime din suprafaţa Asiei şi mai puţin de o zecime din populaţia acesteia, Asia de Vest şi de Sud-Vest concentrează peste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ime din ţările continentului.Totodată este regiunea din Asia cu cea mai mare varietate de populaţii: arabi, persani şi turci – care formează majoritatea, evrei, armeni, greci, azeri, georgieni ş.a. Armenii, evreii şi grecii sunt printre cele mai vechi popoare ale lumi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Vest şi de Sud-Vest este cea mai bogată regiune din lume în petrol şi gaz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 dezvoltare economică, ţările de aici au niveluri dife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, Asia de Vest şi de Sud–Vest este o regiune de platouri vechi, constând din: două peninsule, Arabia şi Asia Mică, ocupate de platouri înconjurate de munţi; Podişul Iranian, desfăşurat la est de Golful Persic; o câmpie joasă şi fertilă, Câmpia Mesopotamiei.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âmpia Mesopotamiei este singura câmpie mai întinsă din Asia de Vest şi de Sud–Vest. Este foarte fertilă, datorită celor două fluvii car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limitează: Tigru şi Eufrat. Fertilitatea ei a favorizat încă din vechime dezvoltarea unor mari civilizaţii: sumeriană, akkadiană, babilonian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comp_i"/>
          <p:cNvPicPr/>
          <p:nvPr/>
        </p:nvPicPr>
        <p:blipFill>
          <a:blip r:embed="rId1"/>
          <a:stretch/>
        </p:blipFill>
        <p:spPr>
          <a:xfrm>
            <a:off x="5638680" y="198108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ificarea ţărilor Asiei de Vest şi de Sud-V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Apropi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rcia, capitala: Ank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pru, capitala: Nico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ria, capitala: Dama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ban, capitala: Beir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srael, capitala: Ierusal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rdania, capitala: Amma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Mijloci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abia Saudită, capitala: Riy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Yemen, capitala: S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’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an, capitala: Mus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miratele Arabe Unite, capital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bu Dha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Qatar, capitala: Do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ahrain, capitala: Mana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te ţ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menia, capitala: Erev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orgia, capitala: Tbil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erbaijan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pital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Ba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ws23</cp:lastModifiedBy>
  <dcterms:modified xsi:type="dcterms:W3CDTF">2012-06-18T11:15:40Z</dcterms:modified>
  <cp:revision>38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